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09F-363D-4DED-82C1-12F7F836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995-F2A2-41EE-A9BD-B84C415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2C94A-E9E1-4114-8AE9-52F0629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643FB-7763-404C-841F-BB909CF1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BD544-6D9E-4A1C-B5C7-D1D65266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361C-FAB3-43C7-847D-E31CA0E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CA666-4A37-4C89-99BC-573C5BF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AB66-57D6-49E1-9315-CC1DF4A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4F0A-D332-40C3-AB27-0888CB23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CD56B-D531-48A9-A4E6-61E55297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F9B35-7C2C-4E36-8687-2C81C9F1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664D5-B708-4E70-927E-6107260F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B9C-E09E-41E4-B145-1EB96858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BB3D5-1C93-40AF-A4AA-72CB8FBC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9C1BA-EEDB-433B-958D-05E11BF0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2250C-0C8A-4B64-9505-3B59F62B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68486-876F-4722-B5DA-7033E0B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9A62E-0A2D-405D-86C3-CCBCEE0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2B86C-5C77-4D9F-B23D-171921F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59D7C-2397-4509-947C-E3D971C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27BCE-7483-4878-A175-4FEE268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F8519-22E4-4333-B94B-462809A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E7BA-943A-4DE0-A03B-40BAFFF3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457-5DEF-4728-810C-231331B2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33255-E87A-4F8A-8A41-D7083CF6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9CCB-50C3-4CF4-9275-FFED3F10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5E2C-B619-44D0-8BAA-4787B026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3D4F7-9CDB-4B6A-B4AF-A00D7011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FBD8-A7D8-4E47-B2AC-37DECA47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29456-97ED-4038-8183-A4F72B00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80528-E790-4400-A91A-2149E6F1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79E6D-DDE4-4936-9CBF-C2F931B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A9F62-DF8B-4467-B2D4-9F32313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F68BC-12A5-4A70-8CBB-F1C2B5B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C22-93B0-4237-8497-43D07B91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5F2E-C1E5-4576-9086-0118E86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43319-33D4-416E-AF12-E2F5C010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6D52-0FCE-44B4-8C34-8CEEB724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C63B0-FA93-4FE5-B2A1-AA78CAF7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D83E0-BC51-4836-8901-4A8834AF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E3C11-7113-4BBF-AA11-3DAFECC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A8AC-FC3B-4E24-9FEC-0695D10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EA47E-C9B5-4133-8C5A-2D7ED99D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A179-60AD-41F3-8264-90C73CE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4158A-539A-4845-BD6C-14681A6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ACDD-C862-477C-A41D-A7C8470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685B4-571F-42B1-896F-FCBEC0D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0F0DE-824B-4487-A8A1-E1ADC2B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40F9-2F8C-4E32-8186-3278F65F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0848-0E76-4F32-948D-08D073D9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CDC92-D4BB-4A79-A426-B622273E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A73-B486-466E-90B4-C5A113D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2C52-9EF3-48B0-AA4B-0EA0383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586-F111-4A5A-8C13-C016EFC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60E6-1ECA-409D-95AC-22BAF9A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865-F766-452A-973C-3A3B99C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E8F-5B65-4F33-BA45-A85F3A5D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3906-55AF-4766-822B-08328D4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1C7-A73D-48E7-AAAB-9B597D3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705-F5C0-481A-94C3-EE6A4B52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DC1B-CC7F-4FCC-B5FA-5E6E3C5E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E3A8-6905-4358-97C7-DA5AC4B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5F67-6443-4B65-AA28-D7014041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E5FA-1369-4D94-BEEC-16C5AA20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D182-BFDA-4AD4-9FD4-58D25DF5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BA62-3C8F-4056-8552-3F0CA98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9222B-8035-41CB-A7A9-5F0BC4B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686-0E8E-404B-852A-779F9FE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997B-848D-4A75-B66C-826504A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A22F-9E14-4BA4-A455-C23395FA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9370-31AE-4452-8ECF-EFBE87A5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3698-00AF-4E75-BA4B-E3261FD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1886-E584-413D-A4DB-C5357563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B6EE-939B-47DD-9646-9E4555CB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D969-5EC1-4642-82DA-E9CF9DB3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FAD5-7EEF-44E1-B188-A9FF19E0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A950-EEC4-4447-896E-4D7581E9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A153-8F7B-458F-A35D-3A7A9713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E14-113A-418B-9ADA-4AAAFD7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862B-6B8E-4C4A-82C0-B2C87AB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B121-FB36-4A56-A419-5E7954F1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9E46-A44C-43BE-928C-3D5D7F83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70C9-2507-4F83-A069-E6C8869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9513-5FC2-46DA-A1DB-B1C3AE4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B273-0AB6-465A-BAA0-1DF83A2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6A85-AF00-44F1-92D3-6529A686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7507-E1C1-4068-B383-8B070F68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4B88-5AE7-4C69-BE1F-87E57A07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3A6F-3F72-4317-9202-0558FA8D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AFF-3005-4868-B8CA-2EE5B328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BF20-22E3-4FA4-A20F-22AF09F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72C2-5A69-4E5B-8401-F4277524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8CDB0-DAAC-4510-88BC-E7B263C8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DC0E-B0D4-4D6D-A843-0E5C0E2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AED89-4DC0-4C0B-BD54-856F779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2EAF2-427B-4383-8624-6003E77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C75E5-F694-4BAE-82FC-514415F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73DC5-949C-4E51-A9BA-6E19DC1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A3FB-E345-419A-A957-9A52FC7A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2431-1450-4411-9ADB-B7FC7AE8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265-B3F6-45BC-AA31-D1808A9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50C99-739F-4C7F-B05B-EC98CB27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D469B-279D-4C2A-A8B8-4EF62B4E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64B9-3DBC-4B4B-9942-94C91D3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CA6A4-CD8F-4982-B942-A6EE946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834F-AF41-4944-A511-C5135B7B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D0F7-F61C-4411-A8B4-4F66B1B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74DA-AE8C-4C5F-9E90-0598AB2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2612-8610-4723-A969-02961D8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8C44-8711-43E2-B768-EA0C35A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B068-6FAB-4CC6-BC43-E85489C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339-69BB-46B7-8827-DC6E7B4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E345-9586-4792-AAED-28F25E84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7422-3796-484C-B4A6-208065CF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39CC-A59D-43CD-8F27-5826A9A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5A34-C403-4194-B331-41278012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85FB8-0947-45B2-8F39-49C6DC25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D474-9567-44DA-8752-ABD703E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251B9-E6B5-47A9-B6D5-F1EE38B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BCF8-AFA2-4C69-8EC0-EDEF207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98E17-B856-4496-87EC-583BF6B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CF80-DECF-4980-8B7C-D8B4759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491-6981-45C6-8FEF-6D594B9A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7B38-4A8C-43A8-864F-A6BF6EA8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ECCAD-F102-41FA-945F-2B4178B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F354-A974-491E-94B6-E604E16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85F96-93B1-4FFC-B9A6-E35AD5B8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65C4-3FB9-4003-BDEC-F5A6B1D7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2E41-F1D9-4924-BA37-A67E0DF5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5339-4225-49AF-97FC-BEFAF144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55A7-05E2-42A0-B267-CD26FB09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02C66-5C08-46BA-973D-16C2A70E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5E676-5AF9-4FC1-B4A6-E80AF85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84D-24DA-419D-A46D-15818DDE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C59C2-A322-4386-B224-ED498C6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ABCB-6CC9-4549-9357-687CA39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8C27-DBA4-4B5C-89CF-AE36ADC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46DF-2C57-400D-A2B6-467BB72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E51D-C3BB-4081-BF5F-7BCA0B7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6000-9853-466E-AA84-14096CBA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920B-5F5F-47F3-8331-45624480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2DAD5-133A-477E-9C08-520C91C8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3322B-2598-4A57-82A9-4E66CC7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C47DA-B4C6-4A4A-A251-219EF0C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493C-C7DB-4EFD-A818-8FF5A7231D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DE87-E9F7-4BAE-AB85-C1D843709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96A-E66E-4C3F-9D2A-B26645F3FA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BF9-7675-4C04-A399-796F30AD8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92F1-73AB-4DDF-845F-B63EE8F439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216E-4995-498C-BAA4-43CC1A2E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7F8-94E7-41C0-BC69-E2EB02B030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317-1A5B-4644-90EE-594D3E24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A5FF-D055-4401-BE61-B9699A8B7A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5C2-E32A-4099-9729-A44EF4BD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79F2-CBF4-4527-8536-B368365BD7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AA6-3A97-4DB1-B045-3A7C492A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219C-3110-479A-BAA8-0DCBEB0E46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B37-F66F-4FF4-9AFF-B82BF1100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99C-40A7-4BBE-A9EB-56BFCDB6BD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8192-5B37-431C-B4C6-65803E0E8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D5F9-41FC-4A5B-B427-0C9236C5F2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7A3B-119D-4197-B40B-862BB03D6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F17-DBA6-4ABE-A18A-2B3BAD9DEC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9B6-4FE3-46D6-9FE1-F97848BF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E4E3-082E-4B19-8B1D-DF643D53D8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1E1-E564-4589-B83B-D50CDBFE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E86E-C802-4A7C-8A1C-078DB197C0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A952-B08C-4162-AEA7-A33E8E85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l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ig Id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prokaryotic cell doesn’t have a nucleus, instead it has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Nucleoid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ts, animals and fungi have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cteria have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acteria always have this many cel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almonella bacteria would have this type of cell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cell is simple and has no nucle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alamander is a complex organism that lives near water.  It is a multi-cellular organism whose cells perform many processes important for its survival. Scientists would classify a salamander as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Eukaryote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picture depicts this type of cel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5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3365640" cy="241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This picture depicts this type of cel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314880" cy="245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These organisms would have this type of cell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4952880" y="4000680"/>
            <a:ext cx="3187800" cy="255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This organism would have this type of cell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3035160" cy="267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d blood cells would be classified as this type of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en two things are alike they are called thi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When two things are different they are called this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ivers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cientists call how something is shaped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cientists call the purpose of something t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This type of cell is complex and has multiple organelle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cientists use patterns, similarity, and diversity to do thi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assify thin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Prokaryotic cells do not have this.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A nucleu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Scientists call our genetic material thi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A nuclear envelope surrounds this organell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 nucleu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Tightly coiled DNA inside a prokaryotic cell is called this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A nucleoi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function of a nuclear envelope is to protect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Both prokaryotes and eukaryotes have this organell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bosom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discover a cell with a cell wall, nucleus, and chloroplasts while looking through a microscope. You classify it as this type of c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2:57:36Z</dcterms:created>
  <dc:creator>Eleanor M. Savko</dc:creator>
  <dc:description/>
  <dc:language>en-US</dc:language>
  <cp:lastModifiedBy>Caroline Roth</cp:lastModifiedBy>
  <dcterms:modified xsi:type="dcterms:W3CDTF">2011-05-24T01:38:54Z</dcterms:modified>
  <cp:revision>56</cp:revision>
  <dc:subject/>
  <dc:title>Blank Jeopardy</dc:title>
</cp:coreProperties>
</file>